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786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4300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15480" y="742680"/>
            <a:ext cx="49532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4300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EE7B-E5AF-4329-B59F-2F9F60D651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AB4D-C446-49AD-9180-DC7DA1C881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F2B-28B1-4C92-9E76-A07DEB9A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4CC-1DBA-472A-AA7A-E77619E1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EBCEC-C4B9-4498-A7CF-79A4832D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28E53-D910-424A-B368-A5FA96C9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808E3-6AA5-4FD0-ABFD-7972AF12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B4A26-D9CA-4014-B913-B33DC5A9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7E837-6E05-4EFC-99BC-D64ACB7E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8DA88-649C-4701-837B-B3D955DE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70668-59C1-412C-872E-DA4BC7A4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3661D-72EC-44A0-A04C-11B87443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02814-0BBA-4C25-B66F-3DF3C3CD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6FB-EFAB-4A4F-AFE1-2934798E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C2E-6013-4665-917E-E28B09F6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0FD2-B40E-42B6-A9F0-FED6560B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687B-63E2-4AD7-8D36-A714DC40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7FFC-A8F6-432E-A9D2-5DE232D3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B4E0-0944-41F8-88F1-54F9A12F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37B8-95F6-42CD-AEE0-BE49748B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1604-6D7C-41F9-9CF6-E8998142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9038-E976-49FC-9915-27008060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55E4-B2EC-485B-A1A7-DC989D66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9197-CC23-419B-B18E-EF579BCF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AA64-FF2B-424D-BFF5-5DF82A71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4EB2-118D-481E-8091-5F3D8580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EE27-5E5A-45B4-846F-C98A4226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E5A6-F412-405C-8F10-1FE7D8EC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8BC7F-1C1D-4F38-B134-DC627980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D94D7-7F49-463D-A049-C5390AA3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346B-08E0-4FCC-B651-A01D08CE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BAFE3-B3E0-4D0C-912A-18C13138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C744F-899B-4012-8899-A4628AA4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AB9-963B-4B94-8A85-4DC2A737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9BA87-91A6-4D57-91A2-586068D8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8E90-884B-4710-AC40-BF766FBE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C61F1-02A7-4DFE-B8A4-48807533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84A7-1663-4E84-90FD-95792331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EF20-786E-43E0-AA1E-B4C72338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4181-3E81-4604-8253-91239EFA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4506-0267-49F5-8206-0ADA9200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E8058-8504-4EA6-B065-2E8199E6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0FBD8-96ED-4C5A-8367-7B4B642F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3CD9C-D518-4147-9C80-2A70B79F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DADB-33CB-4682-B451-72B7C2D3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B0D7A-57DC-493E-8E10-43E428A3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93557-67DD-4F29-8EC1-161BF9E7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8114F-A19C-4C88-A6A5-313BDF27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961FD-7063-4EAB-B534-99E6F9FB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D2570-EF7A-4118-B85C-2B087AFB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8285A-E001-4FDB-AD74-9C8B6AB3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957E9-C7E9-42E0-A36F-0B76A569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6AA79-0DD3-4750-9F69-64782B58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08BE9-D5A9-43A2-8B75-96C22564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B83AD-E474-4E66-B30C-B5AC4225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20EB-EA7B-4DF2-A789-0562B4CC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9FC36-C7FC-4B4B-8F9F-40B0C385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953EC-B849-4A64-B16E-1F2A139C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DB38F-8909-467C-8629-42F6E477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A4183-D259-445A-9C70-4FA500D6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1DD5C-CB54-4790-83DA-8B3A1220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4EB39-2D10-4F92-A65C-172DE1E7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E8280-A3EF-4586-88CE-B1FD57E5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D9F31-2901-4A3F-8EBB-916768AF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A17F2-EE1E-461A-BAA9-BAF213BC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25F80-486E-4579-9B46-78EB8174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89C-28AF-4C85-8544-25050579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9F795-2E58-4A2F-A231-B6567E66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40479-0C58-415B-91DF-FB64485D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43162-101C-4894-AFD8-8505B0F9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C1B69-52CE-442F-9F6E-FC315B49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75FB7-0ECF-44DA-875A-4EAEDFA5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468B4-F2A5-42E7-B454-8730DD3A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DAFE5-137D-4A1A-9012-24DF68BF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A8617-EA01-4576-A5A0-123DA53F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EDE88-33D6-481F-989A-22D8D2CE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CE6FF-B914-41AF-B9FE-1EC1A586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EAB-B57D-4B95-A489-55378DEE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B440E-F6E3-43C6-860D-70F77ED1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75B94-993B-432D-902B-FAABBE1F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B9052-21C0-4060-8613-63CB10B1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E31B4-2705-4355-9F66-F5A6CE59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AE5F9-E8D1-46B2-97BC-04CD161C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48E05-9316-42F5-BE79-F48BA9D9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B3468-D071-4B40-9EE4-F4C823C1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04C0B-1640-4F70-84A2-F2BB6ACD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506DB-4FB2-4144-A1BB-68C0A016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7BF33-5FE0-4B37-ADA4-A52CCDB2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4EC-220E-4460-BB24-7DF14321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618A4-DCD3-4595-9FC1-02B70157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90B29-B6CA-4CA3-ACB1-1B0F797D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4899F-92AE-427C-A293-4FC8836A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C633F-CC05-4108-9FCC-58E42708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4DCF7-DC51-487C-A657-3FA5C32C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8EE6C-5D0B-4848-8CAC-72B29889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27C82-3B6D-46FA-A5E7-AFF6C5F7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571CA-DA93-4F8A-8EAC-FD6C6CFF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2848F-0509-4EDB-8B53-D8DA76EC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69FE6-1801-4D95-8061-591390C0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492-62DE-4AC9-84FC-08FAEF1F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5E2A5-6F9A-4D27-8857-A94113D4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76FD9-8C66-48C3-BDB7-D0530491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51915-2ECF-4203-B77A-1974B157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3DC5D-8A3C-46D0-BDA5-F72E56E3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726A9-19CD-44B6-BBA7-61711761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4A357-5B5B-4940-BFFC-5F6C8FFA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98C0B-FC9A-43F9-936D-4D219BE3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EDB63-BB8F-4137-8CAC-E9C1FC41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C48D9-6014-4BED-85FD-9219ABE5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2C645-FC5A-42CF-9D71-5D6D91F7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9387-7BA4-4444-8D54-23E693812D9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E066-9FB6-4A52-9B64-D8450BE41C2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B20E-8496-4A05-B507-5276B53D53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B309-07CF-43C7-8756-92D206E0BC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9D1D-BF4E-4EC8-95DD-ECC9FDB9E8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1DE0-7A3F-4D25-AEA2-E15CEA58658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BFA2-CF0E-44FF-B0F9-7FCA2BEBBE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9DEB-B002-4C85-94B5-2E48B00C495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B172-39E4-4650-9AAD-1BCCDD4C590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503280" y="529920"/>
            <a:ext cx="8183520" cy="54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йонный семинар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algn="ctr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еализация адаптированной образовательной программы для детей с ЗПР в условиях общеобразовательной школы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Рисунок 3" descr=""/>
          <p:cNvPicPr/>
          <p:nvPr/>
        </p:nvPicPr>
        <p:blipFill>
          <a:blip r:embed="rId1"/>
          <a:stretch/>
        </p:blipFill>
        <p:spPr>
          <a:xfrm>
            <a:off x="3643200" y="4221000"/>
            <a:ext cx="1905120" cy="1171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тельная часть учебного пла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яет состав учебных предметов обязательных предметных областей, которые должны быть реализованы во всех имеющих государственную аккредитацию образовательных организациях, реализующих АООП НОО, и учебное время, отводимое на их изучение по классам (годам) обучени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ь учебного плана, формируемая участниками образовательных отношений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ивает реализацию особых (специфических) образовательных потребностей, характерных для обучающихся с ЗПР, а также индивидуальных потребностей каждого обучающегос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ервом классе  и первом дополнительном классах эта часть отсутствует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304920" y="115920"/>
            <a:ext cx="8686800" cy="14875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99840"/>
            <a:ext cx="8370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АООП НОО для обучающихся с ЗПР предусматривает использование базовых учебников для сверстников без ограничений здоровья. С учётом особых образовательных потребностей обучающихся с ЗПР применяются специальные приложения и дидактические материалы (преимущественное использование натуральной и иллюстративной наглядности), рабочие тетради и пр. на бумажных и (или) электронных носителях, обеспечивающих реализацию программы коррекционной работы и специальную поддержку освоения АООП НОО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69800" y="195120"/>
            <a:ext cx="8229600" cy="1206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требованиями ФГОС НОО обучающихся с ОВЗ внеурочная деятельность организуется по направлениям развития личност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уховно-нравствен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ь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интеллектуаль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культур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ртивно-оздоровитель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8686800" cy="15544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24000" y="1268280"/>
            <a:ext cx="8424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ми направлениями в коррекционной работе являются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онная помощь в овладении базовым содержанием обучен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эмоционально-личностной сферы и коррекция ее недостатков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ознавательной деятельности и целенаправленное формирование высших психических функций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произвольной регуляции деятельности и поведени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я нарушений устной и письменной реч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ребенку успеха в различных видах деятельности с целью предупреждения негативного отношения к учёбе, ситуации школьного обучения в целом, повышения мотивации к школьному обучени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324000" y="189000"/>
            <a:ext cx="8351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иеся с ЗПР имеют право на прохожд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кущ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межуточн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й итогов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аттестации освоения АООП НОО в иных форм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иальные условия проведения текущей, промежуточной и итоговой (по итогам освоения АООП НОО) аттестации обучающихся с ЗПР включаю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ую форму организации аттестации (в малой группе, индивидуальную) с учетом особых образовательных потребностей и индивидуальных особенностей обучающихся с ЗПР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ычную обстановку в классе (присутствие своего учителя, наличие привычных для обучающихся опор: наглядных схем, шаблонов общего хода выполнения заданий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утствие в начале работы этапа общей организации деяте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аптированные инструкции с учетом особых образовательных потребностей и индивидуальных трудностей обучающихся с ЗП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оставление дифференцированной помощи: стимулирующей, организующей, направляющ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величение времени на выполнение зад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организации короткого перерыва (10-15 мин) при нарастании в поведении ребенка проявлений утомления, исто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92160" y="249120"/>
            <a:ext cx="8893080" cy="14511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539280" y="24210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узы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исова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ческой культур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остранного язы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716000" y="2421000"/>
            <a:ext cx="40388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едаго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организато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567360" y="1268280"/>
            <a:ext cx="80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тат специалистов образовательной организа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ющ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7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ООП НОО обучающихся с ЗП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входи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ТАТ СПЕЦИАЛИСТОВ ОБРАЗОВАТЕЛЬНОЙ ОРГАНИЗАЦИИ, РЕАЛИЗУЮЩЕ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7.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ООП НОО ОБУЧАЮЩИХСЯ С ЗПР ДОЛЖНЫ ВХОДИТЬ: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олигофренопедагог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психологи или педагоги-психолог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 по адаптивной физкультур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едаго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аботник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работни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 реализации АООП НОО обучающихся с ЗПР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7.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обучения в одном классе с обучающимися, без ограничений здоровь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рганизация может временно или постоянно обеспечить (по рекомендации ПМПК) участи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юто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827920" cy="18716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560" y="1988640"/>
            <a:ext cx="85374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численность кл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бучаются дети с ЗПР, осваивающие вариант 7.1. АООП НОО,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должна превышать 25 обучающихся, число обучающихся с ЗПР в классе не должно превышать четыре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тальные обучающиеся –не имеющие ограничений по здоровью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численность кл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бучаются дети с ЗПР, осваивающие вариант 7.2. АООП НОО в классе (группе) не должна превышать 15 человек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58560" y="691920"/>
            <a:ext cx="817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ичество учащихся детей с ОВЗ на ставку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-дефектолога (сурдопедагога, тифлопедагога) на каждые 6 - 12 учащихся с ограниченными возможностями здоровь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-логопеда на каждые 6 - 12 учащихся с ограниченными возможностями здоровь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-психолога на каждые 20 учащихся с ограниченными возможностями здоровь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ютора, ассистента (помощника) на каждые 1 - 6 учащихся с ограниченными возможностями здоровь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487440" y="2262240"/>
            <a:ext cx="8686800" cy="1365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503280" y="529920"/>
            <a:ext cx="8183520" cy="54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Министерство образования и науки Российской Федерации утвердило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от 19.12.2014 № 159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деральный  государственный образовательный стандарт начального общего образования обучающихся с ограниченными возможностями здоровья 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от 19.12.2014 № 159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деральный государственный образовательный стандарт начального общего образования обучающихся с умственной отсталостью (интеллектуальными нарушениями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ые стандарты применяется к правоотношениям, возникшим с 1 сентября 2016 год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лиц, зачисленных до 1 сентября 2016 г. для обучения по адаптированным образовательным программам осуществляется по ним до завершения обучен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варианта АООП НОО для обучающегося с ЗПР осуществляется на основе рекомендаций ПМПК, сформулированных по результатам его комплексного психолого-медико-педагогического обследования, в случае наличия у обучающегося инвалидности - с учетом ИПР и мнения родителей (законных представителей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342720" algn="just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342720" algn="just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освоения АООП НОО сохраняется возможность перехода обучающегося с одного варианта АООП НОО на другой. Перевод обучающегося с ЗПР с одного варианта программы на другой осуществляется организацией на основании комплексной оценки результатов освоения АООП НОО, по рекомендации ПМПК и с учетом мнения родителей (законных представителей) в порядке, установленном законодательством Российской Федераци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34272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285840" y="456840"/>
            <a:ext cx="8572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иант 7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едназначен для образования обучающихся с ЗПР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игших к моменту поступления в школу уровня психофизического развития, близкого возрастной нор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озволяющего получить НОО, полностью соответствующее по итоговым достижениям к моменту завершения обучения образованию обучающихся, не имеющих ограничений по возможностям здоровья, в те же сро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ижения планируемых результатов освоения АООП НОО определяются по завершению обучения в начальной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труктуру АООП НОО обязательно включается Программа коррекционной работы, направленная на развитие социальных (жизненных) компетенций обучающегося и поддержку в освоении АООП НО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285840" y="240480"/>
            <a:ext cx="87152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иант 7.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назначен для образования обучающихся с ЗПР, которы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изуются уровнем развития несколько ниже возрастной нор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отставание может проявляться в целом или локально в отдельных функциях (замедленный темп или неравномерное становление познавательной деятельност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й вариант предполагает пролонгированные сроки обучения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ять л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за счет введения первого дополнительного кла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ижения планируемых результатов освоения АООП НОО определяются по завершению обучения в начальной шко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тельной является организация специальных условий обучения и воспитания обучающихся с ЗПР, которые включают использование адаптированной образовательной программы, специальных методов обучения и воспитания, проведение индивидуальных и групповых коррекционно-развивающих занятий, направленных на коррекцию недостатков в физическом и (или) психическом развитии и формирование социальных (жизненных) компетенц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611280" y="603360"/>
            <a:ext cx="8215200" cy="55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ми направлениями в специальной поддержке обучающихся с ЗПР являютс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овлетворение особых образовательных потребностей обучающихся с ЗПР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онная помощь в овладении базовым содержанием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эмоционально-личностной сферы и коррекция ее недостатко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ознавательной деятельности и целенаправленное формирование высших психических функц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произвольной регуляции деятельности и повед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я нарушений устной и письменной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о-педагогическая поддержка предполагает: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щь в формировании адекватных отношений между ребенком, учителями, одноклассниками и другими обучающимися, родителями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у по профилактике внутриличностных и межличностных конфликтов в классе, школе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держание эмоционально комфортной обстановки в классе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щь в освоении нового учебного материала на уроке и, при необходимости, индивидуальной коррекционной помощи в освоении АООП НОО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обучающемуся успеха в доступных ему видах деятельности с целью предупреждения у него негативного отношения к учебе и ситуации школьного обучения в целом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16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ианта 7.1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тельные предметные области учебного плана и учебные предмет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оответствуют ФГОС НО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Раздел III ФГОС НОО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онная работа осуществляется во внеурочное время в объеме не менее 5 час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а коррекционной работы разрабатывается  ОУ самостоятельно в соответств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ФГОС НОО обучающихся с ОВЗ и с учётом Примерной  АООП НОО обучающихся с ЗП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(Закон РФ «Об образовании», ст. 12.6.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08080" y="414360"/>
            <a:ext cx="8783640" cy="884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й план должен соответствовать действующему законодательству Российской Федерации в области образования, обеспечивать введение в действие и реализацию требований ФГОС НОО обучающихся с ОВЗ и выполнение гигиенических требований к режиму образовательного процесса, установленных действующим СанПиНом.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ПиН 2.4.2.3286-15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м плане представлены семь предметных областей и коррекционно-развивающая область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план состоит из двух частей — обязательной части и части, формируемой участниками образовательных отношений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06:55:56Z</dcterms:created>
  <dc:creator>ELENA</dc:creator>
  <dc:description/>
  <dc:language>en-US</dc:language>
  <cp:lastModifiedBy>Ольга Гарголина</cp:lastModifiedBy>
  <dcterms:modified xsi:type="dcterms:W3CDTF">2020-09-25T09:58:43Z</dcterms:modified>
  <cp:revision>159</cp:revision>
  <dc:subject/>
  <dc:title>Разработка адаптированной образовательной  программы для учащихся с ОВЗ в основной школе</dc:title>
</cp:coreProperties>
</file>