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832A-9022-49E7-87D4-ECEAC0FC5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DA19-F6C1-44E2-AD32-B772AEBA8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A782-505A-442F-949F-7A626BB0D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8C92-8BED-4F42-921D-FBE0A4C83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2A9C-B156-44AA-A01A-76A5C943FE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BC40-FA38-4B6B-AA19-FAAC326B82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BD48-4813-45CD-BF03-C1AF8B16A2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249A-795A-48DC-A403-E78BBB6AA0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241F-7E45-4D30-A909-A353ED14BB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E021-2B09-4544-AECC-036D8E126D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146E-29E5-4046-B8A0-97A5D31BE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E3F3-6F85-4990-96FF-D297C493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4240-FCA5-4508-90B6-A082E92D8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0A9A-1B2F-47BD-9E50-6CD6D1124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1A69-7584-4211-A14C-62948F5531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A759-88C5-4766-ABAE-9E3D06D38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7249-79D8-42FB-B4DE-D4476BC8E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BAFA-81DD-4754-82AE-13C4326A6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C4B4-E555-411D-91B3-92C4C2D7A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08E6-9B94-4538-9975-C4336580E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FB9A-CA6B-417A-8D21-63AF60FE0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5D1A-48DD-4FA7-97F9-81C031C24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505C-037E-41F5-A9F5-C9C9EFD23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B683-0A98-4B54-BF46-FA6372F03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D3859D-1BF4-40C8-AB9E-A35588F6154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6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7547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B5EC0D-CAF7-4D7C-BDEB-F896C8ECD01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85800" y="457200"/>
            <a:ext cx="77724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АЗВИТИЕ СИСТЕМЫ ВЗАИМО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КУДО ЦППМСП С ОБЩЕОБРАЗОВАТЕЛЬНЫМИ УЧРЕЖДЕНИЯМИ КИРОВСКОГО РАЙОНА ЛЕНИНГРАДСКОЙ ОБЛАСТИ и службами профилак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14200" y="671400"/>
            <a:ext cx="8501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данной проблемы состоит в том, что с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каждым годом увеличивается количество детей имеющих проблемы в развитии связанные с ограниченными возможностями  их здоровья:  нарушением рече-мыслительной деятельности , познавательных процессов,эмоционально-волевой сферы, внимания и поведения, повышенной утомляемостью, нарушением дисгармоничного семейного воспитания (психический инфантилизм, агрессивность , страхи, тревожность) ,  приводяшие к формированию личности по невротическому типу и ПХР. Количество детей, имеющих вышеперечисленные проблемы в развитии ,    составляет 15-16% от обшего числа  ежегодно поступающих в  1-е классы общеобразовательных школ учащихся . Интеграция таких детей в общеобразовательного пространство Кировского района Лен. области безусловно нуждается в особом внимании , поддержке, и индивидуальном подходе в процессе обучения, а следовательно в ПП сопровождении. В связи с тем, что  Территориальная ПМПК работающая на базе МКУДО ЦППМСП занимается выявлением таких детей , специалисты центра берут на себя  обязанности по оказанию консультативной  ПП помощи образовательным учреждениям  района  в организации методического и  ПП сопровождения  а также, индивидуального подхода в обучении с учетом особеностей развития детей.( МПП обследование, консультирование педагогов, родителей, семинаров, практикумов, тренингов, организация работы РМО психологов, дефектологов, проведение  совместных консилиумов. Просветительская работа со С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14200" y="6714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324000" y="40464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ЧИ ПРОГРА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казание психолого-педагогической, медицинской и социальной помощи детям, испытывающим трудности в освоении основных общеобразовательных программ, развитии и социальной адаптации, в том числе детям с ОВЗ и детям-инвалидам, несовершеннолетним правонарушителям и др. категор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внедрение инновационных подходов и современных технологий психолого-педагогической, медицинской и социальной помощи детям и их ближайшему окружению,  оказание помощи организациям, осуществляющим образовательную деятельность, по вопросам обучения и воспитания,   повышение квалификации участников образовательного процес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беспечение психологически комфортных, педагогически и социально оправданных условий психолого-педагогической, медицинской и социальной помощи, соответствующих требованиям надзорных органов и повышающих удовлетворенность потребителей образовательных услуг МКУДО ЦППМСП совершенствование материально-технической базы,  совершенствование деятельности ПМ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131760"/>
            <a:ext cx="8221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РАБОТА ТЕРРИТОРИАЛЬНОЙ ПМП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79280" y="1600200"/>
            <a:ext cx="8499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ая 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агностика: 1756 ребёнка и подрост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следовано за 2019-2020 уч. год, из них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нтегрированных в общеобразовате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остранство с 1 по 9 класс -454 ребё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сультиров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одителей – 1023 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дагогов — 175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443640" y="2060640"/>
            <a:ext cx="2357640" cy="374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79280" y="561960"/>
            <a:ext cx="158436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967280" y="3384720"/>
            <a:ext cx="25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19120" y="692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учение  в группах коррекционно-развивающей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направленности в МКУДО ЦППМСП по прогр. доп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раз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. Группы коррекции и развития школьных навыков письма и чтения и речемыслительных проце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2. Группа коррекции и развития познавательных способностей и каллиграф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3.Группа коррекции личностных проблем и развития коммуникативных способнос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сего получают помощь течение года 31 учащийся 1-х-2-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щеобразовательных школ г. Кировска нуждающихся в помощи логопеда, психолога , дефектоло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761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27120" y="-17136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 сопровождение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равонарушителей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 течение 3-х лет в рамках 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осстановительного правосудия  проведены 12 процеду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римирения сторо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30400" y="1224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72000" y="3284640"/>
            <a:ext cx="3672000" cy="20016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55640" y="2349360"/>
            <a:ext cx="4643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одготовка и предоставление в суд, органы предварительного расследования информации о личности несовершеннолетнего  правонарушителя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: В течение работы специалисты центра участвовали в рассмотрении дел 42-х подростков-подсудимых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6000" y="3311640"/>
            <a:ext cx="8207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ПП сопровождение интеграции дете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 ОВЗ в общеобразовательно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странство осуществляется через взаимодействие  Территориальной ПМПК и ПМП консилиумов образовательных учреждений на основе  совместного договор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течение  учебного года проходит более 30 совместных выездных заседаний ТПМПК и ПП косилиумов  дошкольных и школьных учреждений района, с целью подведения итогов работы коррекционных групп и организации ПП сопровождения детей группы риска на период адаптации в школ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1162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2"/>
          <p:cNvGrpSpPr/>
          <p:nvPr/>
        </p:nvGrpSpPr>
        <p:grpSpPr>
          <a:xfrm>
            <a:off x="914400" y="1778040"/>
            <a:ext cx="7308720" cy="4060800"/>
            <a:chOff x="914400" y="1778040"/>
            <a:chExt cx="7308720" cy="4060800"/>
          </a:xfrm>
        </p:grpSpPr>
        <p:sp>
          <p:nvSpPr>
            <p:cNvPr id="139" name="Line 3"/>
            <p:cNvSpPr/>
            <p:nvPr/>
          </p:nvSpPr>
          <p:spPr>
            <a:xfrm flipH="1" flipV="1">
              <a:off x="3246120" y="2965320"/>
              <a:ext cx="79524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4"/>
            <p:cNvSpPr/>
            <p:nvPr/>
          </p:nvSpPr>
          <p:spPr>
            <a:xfrm>
              <a:off x="1895400" y="2155680"/>
              <a:ext cx="166068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ащи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H="1" flipV="1">
              <a:off x="2549520" y="3645000"/>
              <a:ext cx="1208160" cy="14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914400" y="31114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щеобразователь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H="1">
              <a:off x="2792520" y="4097160"/>
              <a:ext cx="106344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1255680" y="4199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ДО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3859200" y="4303800"/>
              <a:ext cx="43344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2759040" y="490860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етск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856040" y="4303800"/>
              <a:ext cx="40320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4718160" y="490860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Цент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абилита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5294160" y="4097160"/>
              <a:ext cx="1032120" cy="32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221520" y="419904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ррекцион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-интерна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 flipV="1">
              <a:off x="5392800" y="3642840"/>
              <a:ext cx="1173240" cy="14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6562800" y="311148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П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Д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V="1">
              <a:off x="5106960" y="2965320"/>
              <a:ext cx="76032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5581800" y="2155680"/>
              <a:ext cx="166032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 flipV="1">
              <a:off x="4572000" y="2698920"/>
              <a:ext cx="0" cy="69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3736800" y="1778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тдел опек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попечитель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3736800" y="33940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" name="Picture 22" descr=""/>
          <p:cNvPicPr/>
          <p:nvPr/>
        </p:nvPicPr>
        <p:blipFill>
          <a:blip r:embed="rId1"/>
          <a:stretch/>
        </p:blipFill>
        <p:spPr>
          <a:xfrm>
            <a:off x="3629160" y="3284640"/>
            <a:ext cx="1885680" cy="108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3"/>
          <p:cNvSpPr/>
          <p:nvPr/>
        </p:nvSpPr>
        <p:spPr>
          <a:xfrm>
            <a:off x="457200" y="130320"/>
            <a:ext cx="822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циальное взаимодействие МКУДО ЦППМСП по ППсопровождению 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2:08Z</dcterms:created>
  <dc:creator>user</dc:creator>
  <dc:description/>
  <dc:language>en-US</dc:language>
  <cp:lastModifiedBy>ЦДиК</cp:lastModifiedBy>
  <dcterms:modified xsi:type="dcterms:W3CDTF">2020-10-08T07:42:40Z</dcterms:modified>
  <cp:revision>64</cp:revision>
  <dc:subject/>
  <dc:title>ИСПОЛЬЗОВАНИЕ ИНДИВИДУАЛЬНОГО ПОДХОДА В ПРОЦЕССЕ ОБУЧЕНИЯ И ПСИХОЛОГО-ПЕДАГОГИЧЕСКОГО СОПРОВОЖДЕНИЯ</dc:title>
</cp:coreProperties>
</file>